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4D6B-E1C3-4859-84B7-E45613E257A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7D5C-2185-4BBA-AA99-32FF0E9D923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 to Quantitativ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to Quantitative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for L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B347-1948-44C7-961E-7609E725CDA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 to Quantitativ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 to Quantitative Reas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for L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E1CD-4EB4-44AD-AD4F-0CC248AAFF3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50AD-7DAA-4F3F-ADD0-4E696203AD8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1CBE-5395-4356-AF5C-9FBC244A460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475B-C5BE-4F1B-8EF4-57669FB8050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B2F-6AA2-4937-8B8B-D8A3F91A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987-AC64-4D63-A4F5-AF4390A8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3CB-48C0-499B-B8A2-AEFB805E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77D-5DB1-447F-8A83-8FC8765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DF2-4786-4CE6-80DC-3EB91DF1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A34-6F98-4A84-9DFE-3871D2DA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C9A-3764-428E-B587-0A6B820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215-477E-4973-A715-BC1BE17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A3D-E10C-4371-BED6-36118B16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137-98F0-4770-9B77-A5FA3F57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1C8-C7F3-45C7-A6A2-419763E0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A91-5B65-4B50-832B-CC1E2C3D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_x0012_MEI-Header (2).jpg                                             024F4F16_x0010_Shared documents               7C2682CB:"/>
          <p:cNvPicPr/>
          <p:nvPr/>
        </p:nvPicPr>
        <p:blipFill>
          <a:blip r:embed="rId2"/>
          <a:stretch/>
        </p:blipFill>
        <p:spPr>
          <a:xfrm>
            <a:off x="0" y="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7" descr="_x0011_MEI-Title (2).jpg                                              024F4F16_x0010_Shared documents               7C2682CB: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_x0012_MEI-Header (2).jpg                                             024F4F16_x0010_Shared documents               7C2682CB:"/>
          <p:cNvPicPr/>
          <p:nvPr/>
        </p:nvPicPr>
        <p:blipFill>
          <a:blip r:embed="rId2"/>
          <a:stretch/>
        </p:blipFill>
        <p:spPr>
          <a:xfrm>
            <a:off x="0" y="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7A5C-50AE-440C-8D50-E9D555B8D4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35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350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  <a:p>
            <a:pPr lvl="1" marL="743040" indent="-285840">
              <a:spcBef>
                <a:spcPts val="700"/>
              </a:spcBef>
              <a:buClr>
                <a:srgbClr val="002350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350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  <a:p>
            <a:pPr lvl="2" marL="1143000" indent="-228600">
              <a:spcBef>
                <a:spcPts val="601"/>
              </a:spcBef>
              <a:buClr>
                <a:srgbClr val="002350"/>
              </a:buClr>
              <a:buFont typeface="Rockwel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350"/>
                </a:solidFill>
                <a:latin typeface="Rockwell"/>
              </a:rPr>
              <a:t>Third Outline Level</a:t>
            </a:r>
            <a:endParaRPr b="0" lang="en-US" sz="2400" spc="-1" strike="noStrike">
              <a:solidFill>
                <a:srgbClr val="002350"/>
              </a:solidFill>
              <a:latin typeface="Rockwell"/>
            </a:endParaRPr>
          </a:p>
          <a:p>
            <a:pPr lvl="3" marL="1600200" indent="-228600">
              <a:spcBef>
                <a:spcPts val="499"/>
              </a:spcBef>
              <a:buClr>
                <a:srgbClr val="002350"/>
              </a:buClr>
              <a:buFont typeface="Rockwel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50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002350"/>
              </a:solidFill>
              <a:latin typeface="Rockwell"/>
            </a:endParaRPr>
          </a:p>
          <a:p>
            <a:pPr lvl="4" marL="2057400" indent="-228600">
              <a:spcBef>
                <a:spcPts val="499"/>
              </a:spcBef>
              <a:buClr>
                <a:srgbClr val="002350"/>
              </a:buClr>
              <a:buFont typeface="Rockwel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50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002350"/>
              </a:solidFill>
              <a:latin typeface="Rockwel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Rockwel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50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002350"/>
              </a:solidFill>
              <a:latin typeface="Rockwel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Rockwel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350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oveorfootball.com/film/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integralmaths.org" TargetMode="External"/><Relationship Id="rId2" Type="http://schemas.openxmlformats.org/officeDocument/2006/relationships/hyperlink" Target="mailto:kate.richards@mei.org.uk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2608200" y="20750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39640" y="2781360"/>
            <a:ext cx="792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350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77724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CR Core Maths Level 3 Certificate</a:t>
            </a: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Quantitative Reasoning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Quantitative Problem Solving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re we equ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0" t="0" r="0" b="45185"/>
          <a:stretch/>
        </p:blipFill>
        <p:spPr>
          <a:xfrm>
            <a:off x="1763640" y="1773360"/>
            <a:ext cx="5256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971640" y="820800"/>
            <a:ext cx="734544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5"/>
          <p:cNvSpPr/>
          <p:nvPr/>
        </p:nvSpPr>
        <p:spPr>
          <a:xfrm>
            <a:off x="1619280" y="1557360"/>
            <a:ext cx="5905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11280" y="1353960"/>
            <a:ext cx="8208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The proble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Clearly sta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Data colle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Type of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Representative? (size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ias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error, miss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Da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Variables               (ty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Proces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present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(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raphs, averages, spread, te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Repor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Weaknesses/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Further resea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Are the results surpris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Is the video representative of the resul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1692360" y="9079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Love or Football  -  Bristol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rcRect l="0" t="0" r="0" b="6805"/>
          <a:stretch/>
        </p:blipFill>
        <p:spPr>
          <a:xfrm>
            <a:off x="1187280" y="981000"/>
            <a:ext cx="7088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2608200" y="20750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539640" y="2781360"/>
            <a:ext cx="79200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350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Integral</a:t>
            </a:r>
            <a:br>
              <a:rPr sz="4400"/>
            </a:b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integralmaths.org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Kate Richards</a:t>
            </a:r>
            <a:br>
              <a:rPr sz="4400"/>
            </a:b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kate.richards@mei.org.uk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50"/>
              </a:solidFill>
              <a:latin typeface="Rockwel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rcRect l="0" t="16363" r="21139" b="6250"/>
          <a:stretch/>
        </p:blipFill>
        <p:spPr>
          <a:xfrm>
            <a:off x="250920" y="1197000"/>
            <a:ext cx="8694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2608200" y="20750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ree ideas for statistical investigations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222268"/>
                </a:solidFill>
                <a:latin typeface="Arial"/>
                <a:ea typeface="Arial"/>
              </a:rPr>
              <a:t>The long and the short of it</a:t>
            </a:r>
            <a:br>
              <a:rPr sz="3200"/>
            </a:br>
            <a:r>
              <a:rPr b="1" lang="en-GB" sz="3200" spc="-1" strike="noStrike">
                <a:solidFill>
                  <a:srgbClr val="222268"/>
                </a:solidFill>
                <a:latin typeface="Arial"/>
                <a:ea typeface="Arial"/>
              </a:rPr>
              <a:t>Are we equal?</a:t>
            </a:r>
            <a:br>
              <a:rPr sz="3200"/>
            </a:br>
            <a:r>
              <a:rPr b="1" lang="en-GB" sz="3200" spc="-1" strike="noStrike">
                <a:solidFill>
                  <a:srgbClr val="222268"/>
                </a:solidFill>
                <a:latin typeface="Arial"/>
                <a:ea typeface="Arial"/>
              </a:rPr>
              <a:t>Love or footb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2608200" y="20750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9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ate the problem and plan the analysis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the data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cess and present the results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early report/communicate the findings with recommendations for further research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258920" y="1700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blem Solving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91400" cy="41245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2608200" y="20750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06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raph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utli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apes of distribu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asures of location and sprea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kew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plo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11280" y="119700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long and the short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raph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rcRect l="0" t="3691" r="5769" b="0"/>
          <a:stretch/>
        </p:blipFill>
        <p:spPr>
          <a:xfrm rot="20763600">
            <a:off x="158400" y="1561680"/>
            <a:ext cx="2028960" cy="15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Picture 4" descr=""/>
          <p:cNvPicPr/>
          <p:nvPr/>
        </p:nvPicPr>
        <p:blipFill>
          <a:blip r:embed="rId2"/>
          <a:srcRect l="5382" t="2023" r="5011" b="0"/>
          <a:stretch/>
        </p:blipFill>
        <p:spPr>
          <a:xfrm rot="1062000">
            <a:off x="6461280" y="1876320"/>
            <a:ext cx="1912680" cy="15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5" descr=""/>
          <p:cNvPicPr/>
          <p:nvPr/>
        </p:nvPicPr>
        <p:blipFill>
          <a:blip r:embed="rId3"/>
          <a:srcRect l="5268" t="5442" r="0" b="0"/>
          <a:stretch/>
        </p:blipFill>
        <p:spPr>
          <a:xfrm rot="21097200">
            <a:off x="783720" y="4105440"/>
            <a:ext cx="1489320" cy="14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6" descr=""/>
          <p:cNvPicPr/>
          <p:nvPr/>
        </p:nvPicPr>
        <p:blipFill>
          <a:blip r:embed="rId4"/>
          <a:stretch/>
        </p:blipFill>
        <p:spPr>
          <a:xfrm rot="781800">
            <a:off x="3402000" y="5022720"/>
            <a:ext cx="216216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7" descr=""/>
          <p:cNvPicPr/>
          <p:nvPr/>
        </p:nvPicPr>
        <p:blipFill>
          <a:blip r:embed="rId5"/>
          <a:stretch/>
        </p:blipFill>
        <p:spPr>
          <a:xfrm rot="879600">
            <a:off x="4846680" y="3617640"/>
            <a:ext cx="2228760" cy="13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8" descr=""/>
          <p:cNvPicPr/>
          <p:nvPr/>
        </p:nvPicPr>
        <p:blipFill>
          <a:blip r:embed="rId6"/>
          <a:stretch/>
        </p:blipFill>
        <p:spPr>
          <a:xfrm rot="20774400">
            <a:off x="2417400" y="3026880"/>
            <a:ext cx="164772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Picture 9" descr=""/>
          <p:cNvPicPr/>
          <p:nvPr/>
        </p:nvPicPr>
        <p:blipFill>
          <a:blip r:embed="rId7"/>
          <a:stretch/>
        </p:blipFill>
        <p:spPr>
          <a:xfrm rot="20780400">
            <a:off x="6943320" y="4976280"/>
            <a:ext cx="1685880" cy="13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Picture 11" descr=""/>
          <p:cNvPicPr/>
          <p:nvPr/>
        </p:nvPicPr>
        <p:blipFill>
          <a:blip r:embed="rId8"/>
          <a:stretch/>
        </p:blipFill>
        <p:spPr>
          <a:xfrm rot="697200">
            <a:off x="4398840" y="1688760"/>
            <a:ext cx="143856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raph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198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raph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962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Are we equ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350"/>
                </a:solidFill>
                <a:latin typeface="Arial"/>
                <a:ea typeface="Arial"/>
              </a:rPr>
              <a:t>Scatter graphs</a:t>
            </a:r>
            <a:endParaRPr b="0" lang="en-US" sz="2400" spc="-1" strike="noStrike">
              <a:solidFill>
                <a:srgbClr val="002350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350"/>
                </a:solidFill>
                <a:latin typeface="Arial"/>
                <a:ea typeface="Arial"/>
              </a:rPr>
              <a:t>Outliers</a:t>
            </a:r>
            <a:endParaRPr b="0" lang="en-US" sz="2400" spc="-1" strike="noStrike">
              <a:solidFill>
                <a:srgbClr val="002350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350"/>
                </a:solidFill>
                <a:latin typeface="Arial"/>
                <a:ea typeface="Arial"/>
              </a:rPr>
              <a:t>Correlation</a:t>
            </a:r>
            <a:endParaRPr b="0" lang="en-US" sz="2400" spc="-1" strike="noStrike">
              <a:solidFill>
                <a:srgbClr val="002350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350"/>
                </a:solidFill>
                <a:latin typeface="Arial"/>
                <a:ea typeface="Arial"/>
              </a:rPr>
              <a:t>Spearman's Rank Correlation Coefficient</a:t>
            </a:r>
            <a:endParaRPr b="0" lang="en-US" sz="2400" spc="-1" strike="noStrike">
              <a:solidFill>
                <a:srgbClr val="002350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350"/>
                </a:solidFill>
                <a:latin typeface="Arial"/>
                <a:ea typeface="Arial"/>
              </a:rPr>
              <a:t>Process of a hypothesis test</a:t>
            </a:r>
            <a:endParaRPr b="0" lang="en-US" sz="2400" spc="-1" strike="noStrike">
              <a:solidFill>
                <a:srgbClr val="002350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350"/>
                </a:solidFill>
                <a:latin typeface="Arial"/>
                <a:ea typeface="Arial"/>
              </a:rPr>
              <a:t>Significance test on Spearman's Rank Correlation Coefficient</a:t>
            </a:r>
            <a:endParaRPr b="0" lang="en-US" sz="2400" spc="-1" strike="noStrike">
              <a:solidFill>
                <a:srgbClr val="002350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35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4:18:00Z</dcterms:created>
  <dc:creator>Simon Rees</dc:creator>
  <dc:description/>
  <dc:language>en-US</dc:language>
  <cp:lastModifiedBy>Kate</cp:lastModifiedBy>
  <cp:lastPrinted>2013-06-19T14:26:14Z</cp:lastPrinted>
  <dcterms:modified xsi:type="dcterms:W3CDTF">2014-10-29T11:57:06Z</dcterms:modified>
  <cp:revision>100</cp:revision>
  <dc:subject/>
  <dc:title>MEI PowerPoint Template</dc:title>
</cp:coreProperties>
</file>